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540F-3367-49F2-A997-A25C6F51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9F2-B94E-4541-AF08-DA7EF551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F29-06E9-44F9-A3CB-5716DB85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092-D802-4812-B542-E00856E9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BB7-E99E-4697-BAF2-B7F28EC2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F6C-4D34-4BFE-9E9A-979ABAF1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761-E3C9-4ABC-9EA2-E6DDCB5A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41A-B5C9-49E7-94C4-B265957B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B0B-E505-4EE5-A2D1-3387A2D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BA2-1D61-4E0A-A660-5D76655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638-1520-4C1F-A529-4904322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B71-8295-4402-91C5-EE8B2C3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6FB-5CF3-4761-A4B9-EF0C532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58A-1329-4FC8-B231-40FFB4E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C9A0-114A-4F40-A107-5289B58D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3352680" y="320040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133720" y="304812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b Silsbe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ighting the redcoats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52280" y="825480"/>
            <a:ext cx="1432080" cy="1244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b Sils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Rab (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52280" y="22860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Ra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52280" y="2514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o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152280" y="3505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152280" y="3581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2133720" y="1905120"/>
            <a:ext cx="40384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Boston, Massachuset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Sing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Patrio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Occup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                                    Pri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Employer:                                      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Mr. Lor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2133720" y="3338640"/>
            <a:ext cx="44956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Printing newspapers, dancing at parties, hanging out with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ricilla Lapham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Johnny Tremai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attending the Sons of Liberty mee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Fighting for freedom, helping out friends, working at Mr. Lorne’s printing 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6" descr=""/>
          <p:cNvPicPr/>
          <p:nvPr/>
        </p:nvPicPr>
        <p:blipFill>
          <a:blip r:embed="rId4"/>
          <a:srcRect l="35535" t="36975" r="37045" b="25374"/>
          <a:stretch/>
        </p:blipFill>
        <p:spPr>
          <a:xfrm>
            <a:off x="152280" y="4038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8"/>
          <p:cNvSpPr/>
          <p:nvPr/>
        </p:nvSpPr>
        <p:spPr>
          <a:xfrm>
            <a:off x="152280" y="380988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 Frie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9" descr=""/>
          <p:cNvPicPr/>
          <p:nvPr/>
        </p:nvPicPr>
        <p:blipFill>
          <a:blip r:embed="rId5"/>
          <a:srcRect l="57984" t="24189" r="13354" b="36504"/>
          <a:stretch/>
        </p:blipFill>
        <p:spPr>
          <a:xfrm>
            <a:off x="10666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Line 42"/>
          <p:cNvSpPr/>
          <p:nvPr/>
        </p:nvSpPr>
        <p:spPr>
          <a:xfrm>
            <a:off x="3276720" y="44956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paul revere.jpg"/>
          <p:cNvPicPr/>
          <p:nvPr/>
        </p:nvPicPr>
        <p:blipFill>
          <a:blip r:embed="rId6"/>
          <a:srcRect l="39627" t="23552" r="21694" b="19231"/>
          <a:stretch/>
        </p:blipFill>
        <p:spPr>
          <a:xfrm>
            <a:off x="106668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warren-dr-j.jpg"/>
          <p:cNvPicPr/>
          <p:nvPr/>
        </p:nvPicPr>
        <p:blipFill>
          <a:blip r:embed="rId7"/>
          <a:srcRect l="0" t="0" r="-1279" b="30317"/>
          <a:stretch/>
        </p:blipFill>
        <p:spPr>
          <a:xfrm>
            <a:off x="1522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76320" y="4724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ricilla Laph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066680" y="4724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aul Rev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61280" y="5638680"/>
            <a:ext cx="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Dr. War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91800" y="563868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Johnny Tre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am adams.jpg"/>
          <p:cNvPicPr/>
          <p:nvPr/>
        </p:nvPicPr>
        <p:blipFill>
          <a:blip r:embed="rId8"/>
          <a:stretch/>
        </p:blipFill>
        <p:spPr>
          <a:xfrm>
            <a:off x="457200" y="5867280"/>
            <a:ext cx="9907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9"/>
          <p:cNvSpPr/>
          <p:nvPr/>
        </p:nvSpPr>
        <p:spPr>
          <a:xfrm>
            <a:off x="550440" y="6553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amuel Ada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x001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09680" y="281952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is better so.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601920" y="306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Rab Silsb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Rechelle Mojica</cp:lastModifiedBy>
  <dcterms:modified xsi:type="dcterms:W3CDTF">2010-10-25T01:30:55Z</dcterms:modified>
  <cp:revision>28</cp:revision>
  <dc:subject/>
  <dc:title>Profile</dc:title>
</cp:coreProperties>
</file>